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D452-58C4-48C5-B1A2-86D501F6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878-04A3-4FB7-ADE8-3C1F4CCE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ACD-14C8-453D-88E8-02B3F4C7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6D9-91FC-4A7D-B585-7BDC5767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9C8-BA4B-4982-9424-AB1BE475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D22-BBE1-4A27-AF94-9463F114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19A-6B72-44BF-A92F-90A36AB1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D00-9D5C-4704-8405-246E8D8D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7C0-DEAD-4CBB-9A19-DF1A34FB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B5C-D9EB-43CC-87D2-B9018E2F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47F-A842-421E-A31C-0E52BE13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C2A-4A95-43D3-91A4-7150856F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2750-F21E-4450-AC32-4C2436F52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527F88~1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67840" y="2101680"/>
            <a:ext cx="8277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Lesson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he Spring Festival Is Coming!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960" y="601560"/>
            <a:ext cx="31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五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04920" y="2286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interesting festival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107716~1"/>
          <p:cNvPicPr/>
          <p:nvPr/>
        </p:nvPicPr>
        <p:blipFill>
          <a:blip r:embed="rId1"/>
          <a:srcRect l="3474" t="6142" r="5921" b="4109"/>
          <a:stretch/>
        </p:blipFill>
        <p:spPr>
          <a:xfrm>
            <a:off x="228600" y="76320"/>
            <a:ext cx="9385200" cy="686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_1118~1"/>
          <p:cNvPicPr/>
          <p:nvPr/>
        </p:nvPicPr>
        <p:blipFill>
          <a:blip r:embed="rId2"/>
          <a:srcRect l="893" t="5176" r="5305" b="4985"/>
          <a:stretch/>
        </p:blipFill>
        <p:spPr>
          <a:xfrm>
            <a:off x="380880" y="76320"/>
            <a:ext cx="9004320" cy="689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4C97B9~1"/>
          <p:cNvPicPr/>
          <p:nvPr/>
        </p:nvPicPr>
        <p:blipFill>
          <a:blip r:embed="rId3"/>
          <a:srcRect l="-265" t="7559" r="4945" b="0"/>
          <a:stretch/>
        </p:blipFill>
        <p:spPr>
          <a:xfrm>
            <a:off x="-228600" y="144360"/>
            <a:ext cx="9583560" cy="654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U_2745~1"/>
          <p:cNvPicPr/>
          <p:nvPr/>
        </p:nvPicPr>
        <p:blipFill>
          <a:blip r:embed="rId4"/>
          <a:srcRect l="0" t="4661" r="2207" b="0"/>
          <a:stretch/>
        </p:blipFill>
        <p:spPr>
          <a:xfrm>
            <a:off x="-533520" y="181080"/>
            <a:ext cx="9756720" cy="682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111117~1"/>
          <p:cNvPicPr/>
          <p:nvPr/>
        </p:nvPicPr>
        <p:blipFill>
          <a:blip r:embed="rId5"/>
          <a:srcRect l="4239" t="297" r="0" b="0"/>
          <a:stretch/>
        </p:blipFill>
        <p:spPr>
          <a:xfrm>
            <a:off x="-647640" y="173160"/>
            <a:ext cx="9483840" cy="683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81B1OO~1"/>
          <p:cNvPicPr/>
          <p:nvPr/>
        </p:nvPicPr>
        <p:blipFill>
          <a:blip r:embed="rId6"/>
          <a:stretch/>
        </p:blipFill>
        <p:spPr>
          <a:xfrm>
            <a:off x="-380880" y="152280"/>
            <a:ext cx="9823320" cy="7086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201310~2"/>
          <p:cNvPicPr/>
          <p:nvPr/>
        </p:nvPicPr>
        <p:blipFill>
          <a:blip r:embed="rId7"/>
          <a:srcRect l="6035" t="4030" r="3098" b="4252"/>
          <a:stretch/>
        </p:blipFill>
        <p:spPr>
          <a:xfrm>
            <a:off x="-533520" y="533520"/>
            <a:ext cx="9275760" cy="705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205136~1"/>
          <p:cNvPicPr/>
          <p:nvPr/>
        </p:nvPicPr>
        <p:blipFill>
          <a:blip r:embed="rId8"/>
          <a:stretch/>
        </p:blipFill>
        <p:spPr>
          <a:xfrm>
            <a:off x="380880" y="685800"/>
            <a:ext cx="7925040" cy="5713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1"/>
          <p:cNvSpPr/>
          <p:nvPr/>
        </p:nvSpPr>
        <p:spPr>
          <a:xfrm>
            <a:off x="1600200" y="50292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Spring Fest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6" descr="U_1706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-60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do for the 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Spring Festiva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ZRGRF-~1"/>
          <p:cNvPicPr/>
          <p:nvPr/>
        </p:nvPicPr>
        <p:blipFill>
          <a:blip r:embed="rId2"/>
          <a:stretch/>
        </p:blipFill>
        <p:spPr>
          <a:xfrm>
            <a:off x="609480" y="1295280"/>
            <a:ext cx="7543800" cy="4368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1143000" y="5791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ak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mpl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126879~1"/>
          <p:cNvPicPr/>
          <p:nvPr/>
        </p:nvPicPr>
        <p:blipFill>
          <a:blip r:embed="rId3"/>
          <a:stretch/>
        </p:blipFill>
        <p:spPr>
          <a:xfrm>
            <a:off x="609480" y="1295280"/>
            <a:ext cx="7543800" cy="4351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1371600" y="57150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uy new clothe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RES01_~1"/>
          <p:cNvPicPr/>
          <p:nvPr/>
        </p:nvPicPr>
        <p:blipFill>
          <a:blip r:embed="rId4"/>
          <a:stretch/>
        </p:blipFill>
        <p:spPr>
          <a:xfrm>
            <a:off x="685800" y="990720"/>
            <a:ext cx="7543800" cy="4346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5"/>
          <p:cNvSpPr/>
          <p:nvPr/>
        </p:nvSpPr>
        <p:spPr>
          <a:xfrm>
            <a:off x="1295280" y="57913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ve a family dinn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201303~1"/>
          <p:cNvPicPr/>
          <p:nvPr/>
        </p:nvPicPr>
        <p:blipFill>
          <a:blip r:embed="rId5"/>
          <a:stretch/>
        </p:blipFill>
        <p:spPr>
          <a:xfrm>
            <a:off x="990720" y="914400"/>
            <a:ext cx="7315200" cy="4135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8"/>
          <p:cNvSpPr/>
          <p:nvPr/>
        </p:nvSpPr>
        <p:spPr>
          <a:xfrm>
            <a:off x="152280" y="5546880"/>
            <a:ext cx="861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watch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Spring Festival Gal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n T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002511~2"/>
          <p:cNvPicPr/>
          <p:nvPr/>
        </p:nvPicPr>
        <p:blipFill>
          <a:blip r:embed="rId6"/>
          <a:stretch/>
        </p:blipFill>
        <p:spPr>
          <a:xfrm>
            <a:off x="914400" y="914400"/>
            <a:ext cx="762012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1"/>
          <p:cNvSpPr/>
          <p:nvPr/>
        </p:nvSpPr>
        <p:spPr>
          <a:xfrm>
            <a:off x="1143000" y="5791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et lucky mone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3" descr="139097~1"/>
          <p:cNvPicPr/>
          <p:nvPr/>
        </p:nvPicPr>
        <p:blipFill>
          <a:blip r:embed="rId7"/>
          <a:stretch/>
        </p:blipFill>
        <p:spPr>
          <a:xfrm>
            <a:off x="838080" y="990720"/>
            <a:ext cx="7620120" cy="4359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4"/>
          <p:cNvSpPr/>
          <p:nvPr/>
        </p:nvSpPr>
        <p:spPr>
          <a:xfrm>
            <a:off x="152280" y="58672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isit our family and friend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615925~1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5343480" y="-720"/>
            <a:ext cx="383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ir work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124080" y="373320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Introduce interesting  festivals to your friends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914400" y="608760"/>
            <a:ext cx="7467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roup work (ask and write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sk and answer the questions one by one in groups. Then fill in the blan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143000" y="3049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Spring Fest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1371600"/>
            <a:ext cx="91440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ring Festival is coming. We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____We have a family dinner.We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看春节晚会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on TV. We say “Happy N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ar”and get____________. We visit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__. We are very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715000" y="12952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buy new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62120" y="20574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clean our rooms. We clean the doors,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133720" y="3352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Watch the Spring Festival G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-41040" y="266688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windows and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259092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Lucky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391520" y="4800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228600" y="54100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family and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U_3466~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2666880" y="236232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Comic Sans MS"/>
              </a:rPr>
              <a:t>Show ti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737280" y="685800"/>
            <a:ext cx="38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Summary</a:t>
            </a:r>
            <a:r>
              <a:rPr b="0" lang="zh-CN" sz="5400" spc="-1" strike="noStrike">
                <a:solidFill>
                  <a:srgbClr val="0000ff"/>
                </a:solidFill>
                <a:latin typeface="Comic Sans MS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762120" y="1750680"/>
            <a:ext cx="7924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you feel about the so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did you learn in this lesson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28600" y="7621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21337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lk about some  interesting things at the Spring Festival with your par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9T08:30:08Z</dcterms:created>
  <dc:creator>萍萍</dc:creator>
  <dc:description/>
  <dc:language>en-US</dc:language>
  <cp:lastModifiedBy>LiuYanhua</cp:lastModifiedBy>
  <dcterms:modified xsi:type="dcterms:W3CDTF">2015-12-11T06:26:5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Version">
    <vt:r8>1</vt:r8>
  </property>
</Properties>
</file>